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7E7-E53D-4681-960F-88B0E431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58E-9AC5-4FAA-AD3E-0656DB89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A74-E609-4BB9-A097-493D1DC1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435-2B7C-4BE7-ADAD-76A1BF3D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E277-4AA8-4AC4-9243-F5A1C531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83D8-3FDF-4951-BD61-929DFA90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CFD3-5486-4BBA-8F7B-8C80C4B0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767A-7048-4371-9067-52481CA7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F0AA-70D7-40CF-84C6-A27D3CBB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0C7B-AA4D-4BDB-A87B-1C13F4D0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7699-3CE6-4809-8057-E778DA69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A42-8BCF-4A81-9644-5C118CDB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DA81-0713-4A75-B11F-B28955E0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5D03-6C91-4801-9AE4-47FC0065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F708-D35C-4E9D-97B8-E5628526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BAF7-698D-4D26-A33D-3E72DD10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578C-4160-4A93-ACC6-207B6903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8CD-EF5B-4C1E-8C91-7E36EA30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996-064A-4119-834C-5C75D75B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8F3-8F5D-453C-8D15-9717CC01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960-4B2B-4447-B24C-D6D9C8AF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E96-4E23-4F62-A4B8-6A35343E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415-08E7-4956-B282-E28931B1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B5C-F673-42E4-8FD3-CDE38AEF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3D1F-791A-4704-93D0-2BDCDBF4D1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1A9A-78A6-490B-AD5F-28732C7877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84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Interagency Forum on Earth Data Preservation/LifeCycle/Stewardship 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4190760"/>
            <a:ext cx="7543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January 8, 2009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Rob Raski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NASA/Jet Propulsion Lab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common needs across agenc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higher priority / more funding for long-term preservation of Earth system science data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outcome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pape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ional budget reques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man/Gordon Conference pla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ion of advisory bod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Preserving What?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Multiple Preservation Levels 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1752480"/>
          <a:ext cx="7086600" cy="4498920"/>
        </p:xfrm>
        <a:graphic>
          <a:graphicData uri="http://schemas.openxmlformats.org/drawingml/2006/table">
            <a:tbl>
              <a:tblPr/>
              <a:tblGrid>
                <a:gridCol w="2286000"/>
                <a:gridCol w="4800600"/>
              </a:tblGrid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servation Strateg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iable storage media, fast c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y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EEE Standa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ucture/Format/A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type ontology, scientific forma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meter specifi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cience ontolog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story/contex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acecraft/instrument, processing history, quality, workflow ontolog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7707240" y="2514600"/>
            <a:ext cx="143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c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a8b34b"/>
                </a:solidFill>
                <a:latin typeface="Times New Roman"/>
              </a:rPr>
              <a:t>Synt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8b34b"/>
                </a:solidFill>
                <a:latin typeface="Times New Roman"/>
              </a:rPr>
              <a:t>Seman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3048120"/>
            <a:ext cx="0" cy="2361960"/>
          </a:xfrm>
          <a:prstGeom prst="line">
            <a:avLst/>
          </a:prstGeom>
          <a:ln w="76320">
            <a:solidFill>
              <a:srgbClr val="c70c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Issu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Unique identifiers (UID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eserving Provenanc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mmon naming conventio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eserving Acces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Versioning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Different versions have different UID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upporting Reprocessing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Purposes of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Unique Object Identifier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5380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Uniquely and unambiguously identify data no matter which copy a user ha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Find and access the data no matter where the data currently resides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Facilitate management of data over time by a data cente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Ensure that a copy is an exact replica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Facilitate data citation in publication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Reproducibility of result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ttribution of due credi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Potential UID Representation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I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SID 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I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N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ID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K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UID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-182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RI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Levels of Archival Service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 1 Deep Archive Servic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site back up storage of a data se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data acces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 2 Collection/Directory Level Archive Servic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cillary data and collection level metadata availabl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iated clearinghouse servic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 3 Data Set/Inventory Level Archive Servic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y of a complete data product suite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 4 Data System Level Archive Serv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y of data and the system to process on demand or custom 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7:01:33Z</dcterms:created>
  <dc:creator>Rob Raskin</dc:creator>
  <dc:description/>
  <cp:keywords/>
  <dc:language>en-US</dc:language>
  <cp:lastModifiedBy>Rob Raskin</cp:lastModifiedBy>
  <dcterms:modified xsi:type="dcterms:W3CDTF">2009-01-08T20:40:47Z</dcterms:modified>
  <cp:revision>17</cp:revision>
  <dc:subject/>
  <dc:title>Data Preservation</dc:title>
</cp:coreProperties>
</file>